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E7BC-945F-4650-BB45-91B26320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8E43-0ABA-4953-B5F6-7C628F44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5161-6DD2-4840-9098-B659DF37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5CDD-1F7D-4E0D-A7C5-3A9E3D06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8EAA-A430-43D5-A226-AE3E6FDC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850C-4535-4536-8A1D-6A5216C5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7EE5-05D6-496F-B23A-6F3A9810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2D8B-37F0-43A8-B72D-E16D96C2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A19C-F8AC-425F-8389-3F54F1B2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D59C-DE13-4F81-9302-5D49FC0B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B369-9134-4D94-B273-47EEF09A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1459-F6B4-4C72-8446-17718BE8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9472-1442-4BD1-A40A-17B777DB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F6F8-777C-4FD2-BB26-FB73922E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2E9C-4BA8-44FC-8967-406E1991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E1F3-B3E8-4ACA-94D2-A5794C86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FC93-BAD5-45AE-9B64-19D3C7DB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441E-E08D-4FB7-A58D-9E670238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DCA1-3406-435E-B706-D60B80BE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0C54-B3A0-425B-84E4-7ACFC398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A07B-F253-472E-AFC5-910D382D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4451-8596-4E60-866A-C8BBD530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A99B-1FBF-446B-95D9-4C57C7A7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14EE-464E-4838-BC66-C078676D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5740-93EA-4828-B653-9FC26D1C4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9F48-D7CC-4304-8C47-367BF0F00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PSC 203 Tutori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ection: T3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days and Wednesd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2:00 PM – 12:50 P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om: MS 236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aching Assista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.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ahi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Zibr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hD student, Dept. of Computer Sc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ail: mfzibran@ucalgary.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: www.ucalgary.ca/~mfzibr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T Hour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ednesday, 4:00 PM- 6:0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oom: MS 23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mportant Dates 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 Lab Quizz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eb: MS Excel Spreadshe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rch: MS Access Data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rch: Problem Sol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pril: Design Skil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 Take Home Assign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ment 1: Out: Jan 21 2009, Due: Feb 23 2009, 11:59P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ment 2: Out: Mar 09 2009, Due: April 03 2009, 11:59P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 Term Project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done in the wiki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t: Mar 09 2009, Oral Presentation: April 06 2009 to April 16 2009, Wiki Part Due: April 17 2009, 11:59P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mportant Link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Wik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866880" indent="-470160">
              <a:spcBef>
                <a:spcPts val="499"/>
              </a:spcBef>
              <a:buClr>
                <a:srgbClr val="cc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iki.ucalgary.ca/page/Courses/Computer_Science/CPSC_203/CPSC_203_Templ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utorial-22 TA wik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iki.ucalgary.ca/page/Courses/Computer_Science/CPSC_203/CPSC_203_Template/CPSC203_Template_People/Fahim_Zibr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3:47:13Z</dcterms:created>
  <dc:creator>Fahim</dc:creator>
  <dc:description/>
  <dc:language>en-US</dc:language>
  <cp:lastModifiedBy>Fahim Zibran</cp:lastModifiedBy>
  <dcterms:modified xsi:type="dcterms:W3CDTF">2009-01-19T04:08:26Z</dcterms:modified>
  <cp:revision>16</cp:revision>
  <dc:subject/>
  <dc:title>CPSC 203 Tutorial Section: T32</dc:title>
</cp:coreProperties>
</file>